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09C-C4FD-4763-921B-854BEC93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63F-8ACB-40A7-8A4D-F756500B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543-8EB4-4DE3-8D3C-32EF5DB9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AEF-4491-4E29-A62D-D543E4C6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84A-C33D-4909-AE42-A5427273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380-7D4E-46EC-B1C6-CDF7D36F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8BA-E109-42A2-9D35-EEDBDE99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733-2DC5-4E88-8DB8-651537BB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1B8-A873-4CEF-BB85-C617DDED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9DA-05C8-4EC6-8498-99CC724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270-9413-4DF3-84C3-49E6053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D34-2614-432D-902F-A42DE208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5B46-28BD-4ACD-806B-E40A6D912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3C. Least-squares regress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nother method for finding the equation of a straight line is the least-squares regressio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Least-squares works by mathematically balancing the distance that points are away from the regression lin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asy to work out using CAS calculato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Using CA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nput data into spreadsheet on Lists &amp; Spreadshe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reate scatterplot in Data &amp; Statistic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n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MENU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4: Analys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6: Regress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1: Show Linear (mx+b)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[or 2: Show Linear (a+bx)]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find r and r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Go back to Lists &amp; Spreadsheet pag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MENU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4: Statistic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1: Stat Calculatio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3: Linear Regression (mx+b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Fill in the table with X List as the independent variable and Y List as the dependent variab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ercise 3C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n, you do Q.2 and Q.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"/>
              </a:rPr>
              <a:t>Calculating least-squares regression by hand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you are given a summary of the data rather than the data itself, you may need to calculate the least-squares regression by han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ummary data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mean of the independent variab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mean of the dependent variab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mbria"/>
              </a:rPr>
              <a:t>x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     the standard deviation of the independent variab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mbria"/>
              </a:rPr>
              <a:t>y       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tandard deviation of the dependent variab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r      Pearson’s product-moment correlation coeffici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1285920" y="2214720"/>
          <a:ext cx="35712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214720"/>
                    <a:ext cx="3571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1285920" y="2714760"/>
          <a:ext cx="3333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2714760"/>
                    <a:ext cx="333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he formula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general form of the least-squares regression line is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lope of the regression line 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y-intercept of the regression line is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4000680" y="2143080"/>
          <a:ext cx="224136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2241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6500880" y="3000240"/>
          <a:ext cx="1285920" cy="11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0880" y="3000240"/>
                    <a:ext cx="128592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7343640" y="4357800"/>
          <a:ext cx="180036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43640" y="4357800"/>
                    <a:ext cx="1800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3C, Q.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n, you do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5(a)(d), 7, 10, 11, 12, 13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23:16:56Z</dcterms:created>
  <dc:creator>08843474</dc:creator>
  <dc:description/>
  <dc:language>en-US</dc:language>
  <cp:lastModifiedBy>08843474</cp:lastModifiedBy>
  <dcterms:modified xsi:type="dcterms:W3CDTF">2011-03-06T00:33:25Z</dcterms:modified>
  <cp:revision>2</cp:revision>
  <dc:subject/>
  <dc:title>Introduction to regression</dc:title>
</cp:coreProperties>
</file>